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ECFF-6151-4443-8CC1-5D1B9E68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06D-C453-4145-A1D5-A93D946A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D55-29DC-4D35-9B39-893BF4D7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366-3A5B-4389-A627-71CA69CC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344C-A4DA-44DA-BB1C-6C1D0875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272F-F8E5-44A9-B118-22E1A1A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17B1-DC32-4B42-8569-5C8A012C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7AC-56D1-46CD-879B-E0268FD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659-C64B-46F7-AD8E-A4D35B21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5A71-7B29-4CEF-B653-DAFBD82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8FEE-032E-4E65-959B-CC8C03AF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0D93-FB5E-4A2B-BC60-3C4C105D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0999-EC01-4DEA-8FF7-6B5E509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9D3F-1143-4ECE-B7B8-BED8F08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9D94-DEBB-4C4B-BF90-12B184C0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4B6A-1F77-417D-B454-BF208679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A02-450B-48A7-AFC9-D864E1EF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B62-A5E2-4A83-897E-B784A8E5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9EF-840D-41E5-AC3F-5C8941EF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800-BB99-4D8F-B358-93DA0F7D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39F5-628B-4275-879B-B6C06334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462-4AAD-4EDE-BED6-53EFFAC0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E57-8B7D-4E3D-9FD6-ECA5C2B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1C8-37D3-4713-9A26-EADC8C2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E77-38BC-4DF8-9A24-A20C56A49D5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3EB4-AE38-43C2-9D6B-1CEBC336B43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2768;&#38899;/008.rm" TargetMode="External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979a5"/>
                </a:solidFill>
                <a:latin typeface="Arial"/>
                <a:ea typeface="华文新魏"/>
              </a:rPr>
              <a:t>主题：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关爱生命  安全出行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-------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对来凤县百福司镇的交通事故调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                           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隶书"/>
              </a:rPr>
              <a:t>汇    报    课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 rot="190800">
            <a:off x="-684000" y="1557360"/>
            <a:ext cx="1044108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5.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交通法规知识抢答：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52720" y="98100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（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1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）“严禁三超”中“三超”是指     什么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（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2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）车后写有“请保持一定的距离”，为什么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（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3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）小轿车为何要系有“安全带”？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（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4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）我们为何不能乘坐非客运车辆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?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新魏"/>
              </a:rPr>
              <a:t>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43480" y="409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造成交通事故的</a:t>
            </a:r>
            <a:r>
              <a:rPr b="1" lang="zh-CN" sz="6600" spc="-1" strike="noStrike" u="sng">
                <a:solidFill>
                  <a:srgbClr val="ff9933"/>
                </a:solidFill>
                <a:uFillTx/>
                <a:latin typeface="Arial"/>
                <a:ea typeface="隶书"/>
              </a:rPr>
              <a:t>五大杀手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324000" y="141300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、超速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932360" y="14130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、超载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0" y="2781360"/>
            <a:ext cx="46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３、酒后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4643280" y="2852640"/>
            <a:ext cx="48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４、无证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0" y="450864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隶书"/>
                <a:ea typeface="隶书"/>
              </a:rPr>
              <a:t>５、疲劳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四、活动小结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     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1.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学生小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     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2.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教师小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     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3.</a:t>
            </a: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华文新魏"/>
              </a:rPr>
              <a:t>领导小结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6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四、能力延伸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1.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办黑板报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2.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义务宣传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  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3.</a:t>
            </a: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新魏"/>
              </a:rPr>
              <a:t>学习交通法规知识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隶书"/>
              </a:rPr>
              <a:t>五、活动反思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181080" y="105228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1.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通过开展《关爱生命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安全出行》的综合实践活动课，对学生进行安全教育和生命教育，增强学生的安全意识和自我保护意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由于综合实践活动课的开展受到学校的人力、物力、财力的制约，农村学校开展综合实践活动课程困难重重、步履艰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在初中高年级（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年级）开展综合实践活动课时，学生参与活动不够积极主动、不够大胆，致使活动效果不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100" spc="-1" strike="noStrike">
                <a:solidFill>
                  <a:srgbClr val="dc5900"/>
                </a:solidFill>
                <a:latin typeface="Arial"/>
              </a:rPr>
              <a:t>谢 谢 大 家 </a:t>
            </a:r>
            <a:r>
              <a:rPr b="0" lang="zh-CN" sz="81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！</a:t>
            </a:r>
            <a:endParaRPr b="0" lang="en-US" sz="81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276720" y="1989000"/>
            <a:ext cx="2950920" cy="247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79280" y="4581360"/>
            <a:ext cx="756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隶书"/>
              </a:rPr>
              <a:t>活动目标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初步了解交通事故的原因，增强学生的安全意识和自我保护意识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增强学生对生命的价值理解，掌握有关交通法规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初步掌握调查、访问的方法，培养学生搜集、整合、汇编资料的能力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培养学生与人交往、团结协作的能力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培养学生热爱家乡、立志建设家乡的热情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、促进学生对社会的了解，增强他们的社会责任感和使命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楷体"/>
              </a:rPr>
              <a:t>一、活动背景</a:t>
            </a:r>
            <a:br>
              <a:rPr sz="6000"/>
            </a:b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华文行楷"/>
              </a:rPr>
              <a:t>二、分组情况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行楷"/>
              </a:rPr>
              <a:t>　　</a:t>
            </a: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１</a:t>
            </a: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.</a:t>
            </a: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三个活动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　　２</a:t>
            </a: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.</a:t>
            </a:r>
            <a:r>
              <a:rPr b="1" lang="zh-CN" sz="6000" spc="-1" strike="noStrike">
                <a:solidFill>
                  <a:srgbClr val="ff9933"/>
                </a:solidFill>
                <a:latin typeface="Arial"/>
                <a:ea typeface="华文行楷"/>
              </a:rPr>
              <a:t>五个调查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隶书"/>
              </a:rPr>
              <a:t>分组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341360"/>
          <a:ext cx="9001080" cy="5759640"/>
        </p:xfrm>
        <a:graphic>
          <a:graphicData uri="http://schemas.openxmlformats.org/drawingml/2006/table">
            <a:tbl>
              <a:tblPr/>
              <a:tblGrid>
                <a:gridCol w="2046240"/>
                <a:gridCol w="1271520"/>
                <a:gridCol w="3306960"/>
                <a:gridCol w="2376360"/>
              </a:tblGrid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组           别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组   长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成                       员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区             域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观音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严   丹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向诗涛、谭   琴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线城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河东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彭海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张晓群、彭春丽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河东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荆竹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谭海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杨秋娅、胡家林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荆竹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枫洞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王象林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向秋红、罗   瑶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枫洞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安抚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刘俊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邱成杰、陈健华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安抚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高洞调查组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王   芳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袁   俊、邱   松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高洞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---</a:t>
                      </a:r>
                      <a:r>
                        <a:rPr b="1" lang="zh-CN" sz="2800" spc="-1" strike="noStrike">
                          <a:solidFill>
                            <a:srgbClr val="dc5900"/>
                          </a:solidFill>
                          <a:latin typeface="Arial"/>
                        </a:rPr>
                        <a:t>百福司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三、成果展示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新魏"/>
              </a:rPr>
              <a:t>             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新魏"/>
              </a:rPr>
              <a:t>各调查组汇报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观音调查组     枫洞调查组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荆竹调查组    河东调查组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安抚调查组    高洞调查组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三、成果展示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    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2.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收获、体会、感想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观音调查组            枫洞调查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荆竹调查组            河东调查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安抚调查组            高洞调查组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三、成果展示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3.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展示标语（标志牌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观音组        枫洞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荆竹组        河东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新魏"/>
              </a:rPr>
              <a:t>安抚组        高洞组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3366ff"/>
                </a:solidFill>
                <a:uFillTx/>
                <a:latin typeface="Arial"/>
                <a:ea typeface="华文新魏"/>
              </a:rPr>
              <a:t>道路交通标语（标志牌</a:t>
            </a:r>
            <a:r>
              <a:rPr b="1" lang="zh-CN" sz="5400" spc="-1" strike="noStrike">
                <a:solidFill>
                  <a:srgbClr val="3366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Arial"/>
                <a:ea typeface="隶书"/>
              </a:rPr>
              <a:t>　安全，才能回家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c5900"/>
                </a:solidFill>
                <a:latin typeface="Arial"/>
                <a:ea typeface="隶书"/>
              </a:rPr>
              <a:t>　一看二慢三通过！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c0c0"/>
                </a:solidFill>
                <a:latin typeface="Arial"/>
                <a:ea typeface="隶书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新魏"/>
              </a:rPr>
              <a:t>宁可慢三分，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新魏"/>
              </a:rPr>
              <a:t>     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新魏"/>
              </a:rPr>
              <a:t>不可快一秒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Arial"/>
              </a:rPr>
              <a:t>靠右慢行，礼让三先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c5900"/>
                </a:solidFill>
                <a:latin typeface="Arial"/>
                <a:ea typeface="隶书"/>
              </a:rPr>
              <a:t>三、成果展示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行楷"/>
              </a:rPr>
              <a:t>4.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行楷"/>
              </a:rPr>
              <a:t>文娱节目表演</a:t>
            </a:r>
            <a:r>
              <a:rPr b="1" lang="zh-CN" sz="6000" spc="-1" strike="noStrike">
                <a:solidFill>
                  <a:srgbClr val="3366ff"/>
                </a:solidFill>
                <a:latin typeface="Arial"/>
                <a:ea typeface="华文行楷"/>
              </a:rPr>
              <a:t>: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        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歌曲、舞蹈、小品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华文新魏"/>
              </a:rPr>
              <a:t>     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1:07:2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4:32Z</dcterms:modified>
  <cp:revision>112</cp:revision>
  <dc:subject>主题班会课件(分28大类): http://shop62905894.taobao.com</dc:subject>
  <dc:title>主题班会课件(分28大类): http://shop62905894.taobao.com</dc:title>
</cp:coreProperties>
</file>